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88B-8B42-45C2-B71A-075E2591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78A7-F592-4510-A23B-0513C903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1E29-D8B6-42DB-999F-4C303E24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5B72-8598-4579-9306-62027DA9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A16A-1A51-4AE7-9B1B-76E6DD2C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16F6-E035-444F-8F9C-D328E6EA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253E-28C4-4925-B7FC-A3E89187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1547-36DF-4344-8382-74DBC921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D6F4-C5CF-40BE-8D44-9D44459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65E1-1CB4-40E7-8738-9281DAD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8D56-E18E-4C00-9F0F-6D83A91B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B56D-F894-4AB4-9A28-32640CA3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A70C-9E25-4F5A-9D74-C9032A13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5D83-87B5-4F1E-8ADF-40895CE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B402-426E-42BF-9723-7B0750D4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F83C-9111-4378-B7BA-13CF4F3B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9354-DC01-41CA-889F-B1A62273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B5A8-075E-43A4-9E5D-4B3D89F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E2DE-F916-4BE9-8664-50C94D77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0ACE-7935-4D8F-AC61-EB5F3141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F0F9-FD43-44BA-AA94-1A175EC9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E04D-44B6-49E9-86DA-BE2377A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A80E6-15A4-45F5-A2E2-1A695554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8FBCC-7FE0-44F5-9D8E-58E73D0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8FC-9F83-45CB-9D15-4E7135101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1CD-0352-48E5-88CD-C5DFA80FCF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40516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hapter 6 Review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8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9) Describe the guidelines discussed in the text for analyzing your audience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ttention to the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udience traits, states, and goals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forget about audience 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1) Explain the connections between age and persuasion strategies, as well as age and persuasibility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uasion strategies get more sophisticates as the persuader gets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are more persua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actor decrease children’s vulnerability: family influence and getting ol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people can be more vulnerable, or they may be set in their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2) Describe arguments for and against educating children about potential molesters.  Include at least three of the eleven lures discussed in the chapter in your response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c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t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ection/lov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ber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o/fame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 and game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ic and ritual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nography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o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3) Discuss the connections between gender and persuasion, as well as gender and persuasibility.  Be sure to use information from the chapter to support your answ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more likely to be verbally ag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on this topic has changed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4) Explain individualism-collectivism as a dimension of cultural variability.  Include examples to illustrate your answ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vism: values harmony, concern for others, the goals of the group over the goals of the 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: independence, goal of the individual over the goal of the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5) Why is intelligence a double-edged sword when it comes to persuasion?  Explain using information from the chapter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asier for intelligent people to understand the messag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is also easier for them to critically evaluat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6) What level of self-esteem is most persuadable?  Why? Explain why other levels of self esteem are less persuadable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elf-esteem: more likely to yield to the message, but may be too concerned about appearance to be rece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elf-esteem: more likely to receive the message, less likely to change attitudes and behavi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729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7) Describe self-monitoring and its relationship to persuasibility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self-monitor: less sensitive to social c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elf-monitors are susceptible to “image based” advertising, more likely to buy name br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def6"/>
                </a:solidFill>
                <a:latin typeface="Arial"/>
              </a:rPr>
              <a:t>8) Explain social judgement theory.  Be sure to include explanations for the following terms in your answer: anchor, latitude of acceptance, latitude of noncommitment, and latitude of rejection. 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eferred position is called the anch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acceptance: other acceptable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noncommitment: positions that are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itude of rejection: unacceptable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15:26:39Z</dcterms:created>
  <dc:creator>nuhs</dc:creator>
  <dc:description/>
  <dc:language>en-US</dc:language>
  <cp:lastModifiedBy>nuhs</cp:lastModifiedBy>
  <dcterms:modified xsi:type="dcterms:W3CDTF">2007-10-08T16:01:26Z</dcterms:modified>
  <cp:revision>4</cp:revision>
  <dc:subject/>
  <dc:title>Chapter 6 Review</dc:title>
</cp:coreProperties>
</file>